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E61-358A-4292-8323-0321E3BB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62A-AC53-42E7-94BF-83B53B4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1CB31-1F15-401B-AF58-2D6AB226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452D-4D16-41E4-ADC6-16087C9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9CBD7-65EB-462B-852E-8810532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EDE80-CC1A-4949-BDAE-8335326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1E6E6-1C27-4328-BAF3-9DEF5DC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E78ED-749F-4767-931F-AB50506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5A2B-EFA1-4DF8-9528-668BF53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05BD1-4BFC-4ABC-9C00-00B88F23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F1B83-0E84-47CF-B096-28A46738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7E54-3D3F-43C4-8A03-99EE0832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C6B-A3A0-43BE-AB8F-CC9AB8C0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33EE9-DD12-421C-B47E-61A983F2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702B-B486-4F10-8CB8-41395B5D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910FE-A6F6-4A87-BA82-F58A9D32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26B56-6B88-404A-ACEE-99A6E573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442E-6431-4746-998F-2E449FD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CF96D-6F02-4465-9F46-D76CCBC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BDE18-1876-4273-9C8A-2936701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53375-EF3A-4925-BF46-E774EFCE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A79FD-0362-4D3F-9DBA-03BD7F4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4E4B8-3E34-4E27-AE89-BD0C8C2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C37-DAA5-4362-B690-31394580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95D63-1508-441A-B4C8-D6309F89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E4DB-9B9D-4DC1-A277-4D5E482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892BC-5776-4EE7-9E53-527A153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D9CB4-089D-4642-BE92-9AE66B8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9223E-882A-4DB8-A518-44A72BE9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EF451-35FA-4EF0-92A4-5C1D12B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1711D-244F-4F2A-B021-DABCD67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5C3E-7D4B-4816-84BF-55BE029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5FAAD-CFEE-430D-9AAA-A4ACE15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0995A-4898-40B3-A6EF-50B07E2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CEB-D89F-46D7-BC78-9E82DA7D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757E-7303-4CAF-8A0C-5C729C8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A6A8-8986-4BB9-8F4A-6F14D2A8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A23F7-395C-4263-B374-06A97B6F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93AB3-0451-4C0E-8A33-5BD5BDEE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5B8D9-11C7-43A2-8B3C-9D34814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01C03-BC65-4E1E-A551-F9E2C042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36E92-5647-420D-8265-21D7AD50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02F15-11E1-4DA8-90E5-6A872477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7F192-E9AB-42AD-81DE-539FA61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6E8E3-C2DB-4401-A77E-CAF72F0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3F1F-42ED-4CE1-A27B-13074B6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00CA2-1BA7-4B23-8BA2-15A3A26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C2AD-1511-43E2-B7E8-16B13BF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DA10B-7D0E-48CB-B3B8-CBAEBD57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ECCE1-1088-459A-935C-CF6F3E44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FE9CE-4D0A-4E76-851E-CEF73EEA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CC578-907D-4882-A938-EE850D16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941DB-6FBA-44BC-A317-F3C1B92F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3E831-21C2-4E72-9664-371D61D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856A5-BB80-426F-A8FE-C296503F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0D1E3-D870-4B1E-AB94-B202D6A9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4FB5-D1FB-47C4-ABD0-9B232B3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C881E-63B4-435A-BFC6-8F02178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38029-BF1B-4D7F-B8BC-86718EC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D6CDE-7448-4C04-9ADE-67FB8B7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45B1A-5865-4D71-8B4D-059A2E7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5085E-AD9E-4078-9A28-443E96C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DD1B4-0B97-4B3C-9DD3-A283686F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560C3-3039-4EAC-A8D8-AF0A1D63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05943-4C5A-414F-A0A4-B40AF60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CD4E7-3424-43DD-AED8-4FF4E72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A75CD-E07B-4278-BB83-ED7DEBA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F78-A3D6-4D2E-805C-979CD17C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1CC29-CB65-477A-A6DB-54DB9B6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7E339-F1DF-4803-B19F-23FFA90C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5E228-1222-4C3B-AB25-BCA050F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EC4AB-EB9F-4DF7-93FA-8B51086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3BBF8-3495-47F6-BB91-48D0E43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ACF65-063B-4F6B-A16E-DC0DE14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35FCA-D5A8-4785-9BE2-EE9636D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3E6B3-94E0-42F1-AF7B-C163DB39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EAFFD-001B-4136-8F2C-A2AF3C03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CF108-DDAB-4360-B1C3-6122D82C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13E-2360-4F08-86F9-94DA5F9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A2021-5D28-4311-971F-BBDBAEF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4273F-9DBD-4941-A440-E52FDDF4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7E4A1-C127-4F03-8F98-F3D1BED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06E68-880F-4C99-ADEA-1193C69C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636E8-2FBE-4EF0-BA82-62EF5BBA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256BF-0514-49B7-8ACF-32C96F14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41FCB-6C00-4EDF-9F69-6E89C04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30195-A4C5-46F8-B52A-9075E63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A4364-46B1-4AC7-A560-CAEAD70E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F2301-FE0C-4EAE-A014-215AF8A1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98E-87E9-422D-949A-B814AC6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A35A7-1658-48E0-B8FB-26DF672D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55742-E5C6-4B18-B517-7774649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48DC8-27BB-4E95-8C30-E0BB841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3F04B-C53C-46EF-A623-ED8D352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20425-B2A4-4D99-9E9E-3878165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9B81B-B78B-418F-A3CE-BC763BE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7667A-5B85-4298-B5EA-7BFE582D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33556-0F62-4C4E-B386-27968A8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D0C81-F4B9-4396-991D-8994B38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A0F67-4E93-4335-A9C9-F804660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A1C1-C8E1-49D0-B084-409B250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4C551-B855-462C-A4D4-E75EFB3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F6EB8-CC63-49CB-A259-8A0791CB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131E4-15CA-4311-8E04-C0ADE97C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020AB-7A5C-489F-82FE-5248B9FF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85220-5F84-40D6-9000-D30E793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F514E-B4F4-489B-ACE9-F0F58D5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DC043-3A37-4615-99DC-61D84DB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18879-58D6-4007-8F01-BA2DCB4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21A8C-2D1F-4251-A8FF-08DEABAD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90ECA-B4EA-4B34-9541-CB4B230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40C-7920-4AB5-9BE6-18E1434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876F-CC74-4E69-849F-26FD46D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68669-90AB-499A-9952-6D3CC29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0B363-02AA-4211-ACC7-DB8F2C5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52803-15A9-4978-A30B-05EC156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3A319-C29E-4086-8840-8DA072A4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378A3-2A1E-4BF6-B893-9C2A7250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15C8E-C498-4A77-A7DA-FDC5891F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BE317-1453-4252-9854-FCD40D3E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C1B38-9B7F-4C88-8B54-B0DED5AE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D5DB8-1B9F-46C7-83C3-70D4051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29FD2-CD90-49CC-B8FC-C2F24B9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325-A1A0-441E-BD5F-04C2153F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B88C5-75F6-4E95-86B2-3DE39110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F124F-CFE8-45DD-8FD0-E516667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2A76C-881D-44A2-95FC-E00BCED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68E1D-0959-4900-BE5D-F9BABF5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9FBC7-7F94-4DC3-86D5-8FC79AD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E6473-8D5F-42FC-AE26-2666D9E4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A9860-86D1-4C78-AC13-6A331E7E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17815-44BC-4501-8CCC-A198A4B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0FD88-64DF-4422-ACC0-4D2668BC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38395-1D74-4F03-A3A9-FC7A43E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B1E-FDD7-4AEA-8E9E-B070854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69B73-0884-4950-A506-F7CA261D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37870-2F43-41DC-8D84-C2636175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BC0CB-B937-4863-A571-B4F2487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6E5B8-0062-4BC7-8048-613D5B5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F309E-3639-4E0D-83C2-55DF4C4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DF260-EFBA-4A86-BABF-E936B2E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7A976-5ED5-4381-B29F-32B2B405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957C0-B311-4335-BFCB-672E22CA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21CCA-1F50-40F9-9C76-33C42384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C16DC-FD37-4ED4-AA14-646D446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817-000B-4110-9B42-3CA8892D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14748-5F9F-46F4-9524-FEC6622D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974EB-70C5-4E72-A4A3-C131303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46437-99AC-437F-9E6A-893FE7D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B7A62-7BA4-4CC8-8749-A1BDEE68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59B83-597F-4238-906F-848C993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76951-7A2B-4A5E-992F-3EF4600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F55E8-E6B8-483E-8FBD-8902279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C28C9-9D17-4025-97F3-3D40871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B98EB-E863-48B4-8CB2-3E6EC9E3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3B3BD-9869-445B-BA1C-8C0947BF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F72-858C-41AA-A0BB-34095259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5C9CC-38D3-4781-98C0-FAB1016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B0F32-79FF-437A-A379-0CA326CB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449F0-C49B-493A-BAD0-7B5202F2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FD8A1-F8B2-4897-A2D0-685F9886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AF2FB-95A4-4C58-A2C6-AFB58CC1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106A18-1500-458D-995B-19DE09E5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9A20F-9A82-42C3-9FD5-CD1D752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FFC39-944F-4D37-AE1F-106CFDC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7D97F-A9BA-4657-A8D3-E2D40E7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7B67E-7109-406D-8366-2BC9B71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3380-FA64-4417-84C4-9E6AF105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52726E-4A26-45DE-B153-FDC7C83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0A513-3EC7-4582-AA22-EF6E6573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60ECA-0F4E-4741-8ABF-F3AE0DA1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12BD-8BBF-4E4C-99FE-E794D1F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9371-8726-45B4-A642-F0BFAA7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5394-4A48-45C0-8FBE-4559249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2AA2-9546-4913-AB0D-B0B3701A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B5C-7C2C-4E94-AF97-BE5F0C8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FE49-4499-4152-BA36-A72AA49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03CA-8098-4507-8EB8-8969433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577D-A463-4070-B7E4-571C764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9096-8F3D-45A2-BCC2-B473A45B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EAF2-8789-4DB6-B4E4-85E11FC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EBF2-949C-43D5-BC5A-A4CFA581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65E3-6518-4262-9878-017EA608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5709-33DB-4B8F-9C83-FDB15EF7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24B6-6A75-43F5-AE61-1B23DED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8E94-2F07-41A3-B0D3-C9E29B8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9AE-EFCB-49A2-BAF1-ADE97AA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A735-BDAB-4387-ADED-B0D2584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B660-CEC7-410B-975E-173DDAE3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4197-6BAD-49D7-B053-C32844D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C9E6B-3E91-4022-B7EA-F6567D0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B378-7D2C-4349-86DA-F3E6E47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EDB7-DC80-46CC-8577-8ABCED7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6FDB-48E3-4548-B837-1BBD80A6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1B6E-8E2B-46EA-B55F-6A22C6B4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BCC7-D432-47B3-A506-6E03A387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7706-419A-43A2-A6BF-2CFAFFC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398-2796-49BE-B894-5582D13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BD8E-FEBC-4469-8C9F-E8934A6C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A0C6-6AE5-41B1-A969-CCBC38B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56B2-5D59-49C5-9D55-D67D63A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24A2-B8A2-4C10-9041-EBD44EBA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3601-EFA8-4DC1-A499-3829BDCE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B0B9-89D9-4740-B7A8-D1EF41C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F488-8767-4872-9DE2-C890E99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C3AE-7C66-43FC-B34E-B15C126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6191-4C9D-404E-B3E9-C940401C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A39E-33DC-4A98-82EF-A7EA5464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A01-3BD5-4DC9-9419-6370A78E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6039-7001-4104-BEA0-D0A90EC1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B558-6CD1-4F72-91CC-3EDE4387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893F-096C-41C3-A0EC-F8A17C3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B080-EC54-447E-9FBA-D66B972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9679-CAE4-4DB1-8FB6-D4A92C7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4330-8792-437E-B28B-7B36C72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D1C0-C8C4-40C7-A370-A7561135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EB7C-77C1-4863-9F26-A899AE1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DEDC-6C9B-49ED-865A-23B2623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53421-9FBA-40B9-9942-8E802E7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ACC-D5FE-4E1F-9C4B-61762ED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3DF0-BBEC-4BFA-B24B-482448F7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7664-0A48-4618-800D-90FE04D8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E04F-376E-4CE3-A0A5-0C161623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3E4A-5203-40D2-98E5-742FFB64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43050-F16A-4D96-8952-DB3E68D0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5341-A936-4F21-A174-7F3F3EF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8323-B912-46AE-B4E0-4BB0BA4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8FEF-DD16-435D-920F-BEA359B3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D4771-69EA-43B9-985F-6835EDB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A0E4B-FE82-4C6C-8120-6B5EB9C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F13-6C82-4E82-AF02-7A87932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52AE-73A9-476D-9E79-723626C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E1BB-C4A7-4CC3-861F-8E82597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3A4E-E9D7-4127-B29D-49526A91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0D61F-D290-4E90-BE11-8587B74F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4DC7-6DA5-492A-9D6A-2BF422B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B764-AE48-4332-B8BC-74B99F79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B81B3-C9B6-4100-90E3-8288C32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9A184-2D0A-4AD5-9C35-DD9DAA1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62F6-AC4F-45CE-B0C0-5BBFEE38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80542-F474-413A-AE37-F59D664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8EF-CD89-4BA6-8F2A-C928039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13C7-527F-4E36-BA69-1DBD1D6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26C3-2B24-4A5F-84E1-B5F378F0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EEAB-305E-4ADA-9AAE-3EF71C4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B84F9-BF67-410A-AC5D-99DD40C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10FCC-0B88-4CD1-9DF7-9242E46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447C-D311-4E81-A7BC-FDBD9E09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BCAB-7E36-4E77-BE98-98E482F9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B3FD-B607-48D2-9215-E2F9DC32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29C55-D864-40C9-9171-F00BF90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DE04-06BD-4B5E-B832-A8D1E1E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9A3-D725-46C5-B250-C7EF59F6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F89E-A7F7-4309-A68F-5CBA511F4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1964-4D5D-4F6B-8026-20B838E89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84A-2CE7-45E7-8A8A-2CB11CE9A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5F3-08A2-4A80-81B3-4A1F05941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BA38-ED78-42AF-91D1-985E491F22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6E0-4094-4662-A24F-AA774BEE3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46D-408C-4B42-B963-0962C5231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93D-D4F6-44B9-9B49-3E8B852574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37C4-E75E-426E-8D2E-69D692C22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6518-A0DD-4B18-AF07-A6EE588D9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ADF-8421-45F8-A2FB-39F095659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20E-AD7F-4C17-A9DF-C9316EABC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C37D-8907-4932-8D5F-F53C3C303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3610-F02C-4717-BB5E-AF8A3593E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2BF-0643-44F7-A702-9722AF062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F7C6-11AB-46A6-85B8-BCB7E17F7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916E-AFA3-44FD-AC22-35F901D1D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05D0-9D16-4DFE-8A95-3BE5558BBC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3AC-27FA-408E-AA0B-557E6BAA9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E5F3-780D-4883-A393-413F55A53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D35A-B1FE-4168-A72A-7C2D2946E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C2C4-D982-4689-B6E5-061A38398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A22-8E52-4337-81AD-462C661F3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CF1-1408-4489-8F73-268C79361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D887-4AB5-4696-B246-BC00B0252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769-6CB7-4A5D-B119-85C96A8A8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D12-88B7-4FE0-B74C-31B22CED7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61B-660A-4924-8418-DEF3879BA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3F8-7DF6-4E8E-A8AA-FBD7912E7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876-6C36-47D3-A563-E1A108553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627-77D6-4A71-A398-2F5C04140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E60E-AA2B-43DE-A541-AAAF18F3E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A76-C08F-4DA1-BA34-B1B0DBEA8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66D-F7FA-4E7F-B74E-46B649DA3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F260-3C5B-4757-B860-1D1F92DD6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23A-20E2-448D-8D84-113EDA263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D54-B99E-42DA-872C-18E35A999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64D-89C1-4A90-9C8F-3EBB89CB7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B18-2CB6-41E0-A7A3-0FB33B8FC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38240" y="2852640"/>
            <a:ext cx="886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61960" y="1195560"/>
            <a:ext cx="8020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1057320" y="3129120"/>
            <a:ext cx="702936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676440"/>
            <a:ext cx="8229600" cy="61815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2214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5143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04720" y="1738440"/>
            <a:ext cx="8134560" cy="33811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71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85716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182080" cy="2095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>
            <a:off x="2500200" y="1785960"/>
            <a:ext cx="1500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2143080" y="264312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4572000" y="35719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2071800" y="442908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000240" y="5286240"/>
            <a:ext cx="20005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66560" y="1509840"/>
            <a:ext cx="8210880" cy="38383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714760" y="235728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214880" y="235728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7143840" y="235728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928800" y="3643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2571840" y="3643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4000680" y="3643200"/>
            <a:ext cx="928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6729480" y="3639960"/>
            <a:ext cx="6429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7786800" y="36291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1071720" y="4071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4000680" y="4915080"/>
            <a:ext cx="1143000" cy="371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6929280" y="4929120"/>
            <a:ext cx="1357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38200" y="2176560"/>
            <a:ext cx="8067600" cy="25048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1928880" y="2571840"/>
            <a:ext cx="2000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585792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7715160" y="2571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1000080" y="300024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2857680" y="38577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4714920" y="38577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6086520" y="382284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7143840" y="38577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1143000" y="42861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476280" y="766800"/>
            <a:ext cx="8191440" cy="5324400"/>
          </a:xfrm>
          <a:prstGeom prst="rect">
            <a:avLst/>
          </a:prstGeom>
          <a:ln w="0">
            <a:noFill/>
          </a:ln>
        </p:spPr>
      </p:pic>
      <p:sp>
        <p:nvSpPr>
          <p:cNvPr id="1061" name="矩形 2"/>
          <p:cNvSpPr/>
          <p:nvPr/>
        </p:nvSpPr>
        <p:spPr>
          <a:xfrm>
            <a:off x="1477800" y="349740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3"/>
          <p:cNvSpPr/>
          <p:nvPr/>
        </p:nvSpPr>
        <p:spPr>
          <a:xfrm>
            <a:off x="1579680" y="4314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4"/>
          <p:cNvSpPr/>
          <p:nvPr/>
        </p:nvSpPr>
        <p:spPr>
          <a:xfrm>
            <a:off x="4214880" y="5572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728640" y="2414520"/>
            <a:ext cx="7686720" cy="2028960"/>
          </a:xfrm>
          <a:prstGeom prst="rect">
            <a:avLst/>
          </a:prstGeom>
          <a:ln w="0">
            <a:noFill/>
          </a:ln>
        </p:spPr>
      </p:pic>
      <p:sp>
        <p:nvSpPr>
          <p:cNvPr id="1065" name="矩形 2"/>
          <p:cNvSpPr/>
          <p:nvPr/>
        </p:nvSpPr>
        <p:spPr>
          <a:xfrm>
            <a:off x="1785960" y="2786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3"/>
          <p:cNvSpPr/>
          <p:nvPr/>
        </p:nvSpPr>
        <p:spPr>
          <a:xfrm>
            <a:off x="3571920" y="3643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